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A0B-C0DE-4DDE-AAB4-E7591B48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E01-5CCD-4567-8A90-0F18ABF3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EA2-2A0B-48BA-BF93-84C79457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251-2DBC-433B-BA21-F5BC376F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E642-CC93-4F5C-A2B2-AA511762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06E4-D159-4701-AF70-0D8B1A6C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0347-2605-43B4-BB39-923CD7B2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975A-36C3-49CC-8474-E924592F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5B86-68BE-483F-8374-9C30AEE8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885E-43E8-42D7-906F-EB14C86D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BEC5-5382-4CD5-8DB3-4FB622D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3A5-F90E-46E9-BB1F-26F37E22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7FA7-E478-4593-B081-8E31725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01B9-41E3-4638-822F-196E77C5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F7BB-F509-4B2A-BA85-CC0DD10B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E22C-1B5C-4A6B-B29D-75CCD53C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62E3-4D17-415E-8E19-9620E071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D95-64EB-4457-9FD7-68D25EEA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93E-6A77-4AC5-B672-656F0B54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DCA-5F01-4D29-838F-0F5982AF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18D-CC10-44A2-AE4A-C75E528A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3DA-09E9-4A79-8671-346C7CD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D23-85B0-4B02-8C0C-C1B4E7C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E3A-3421-46D4-9775-69C6C244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7891-52FE-49A7-84FA-48FEB296E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F6E8-5775-42C4-BF91-08624A174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99080" y="1828800"/>
            <a:ext cx="57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Thesi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Statement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76212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A </a:t>
            </a:r>
            <a:r>
              <a:rPr b="0" lang="en-US" sz="4400" spc="-1" strike="noStrike">
                <a:solidFill>
                  <a:srgbClr val="ff0066"/>
                </a:solidFill>
                <a:latin typeface="Cooper Black"/>
              </a:rPr>
              <a:t>working thesis </a:t>
            </a:r>
            <a:r>
              <a:rPr b="0" lang="en-US" sz="4400" spc="-1" strike="noStrike">
                <a:solidFill>
                  <a:srgbClr val="33cc33"/>
                </a:solidFill>
                <a:latin typeface="Cooper Black"/>
                <a:ea typeface="Times New Roman"/>
              </a:rPr>
              <a:t>may change as you revise and redraft what you write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This is okay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You are not locked into your original idea if you think of something bett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3808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6699"/>
                </a:solidFill>
                <a:latin typeface="Ravie"/>
              </a:rPr>
              <a:t>Guidelines for Writing Effective </a:t>
            </a: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Thesi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Statem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99072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Clearly define   your opinion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Make sure your readers know what you think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533520"/>
            <a:ext cx="77724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any people have different opinions on whether people under twenty-one</a:t>
            </a:r>
            <a:r>
              <a:rPr b="1" lang="en-US" sz="4400" spc="-1" strike="noStrike">
                <a:solidFill>
                  <a:srgbClr val="666699"/>
                </a:solidFill>
                <a:latin typeface="Ravie"/>
              </a:rPr>
              <a:t> </a:t>
            </a: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should be permitted to drink alcohol, and I agree with som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60948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question of whether we need a national law governing the minimum age to drink alcohol is a controversial issue in many sta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45720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I want to give my opinion on the national law that sets twenty-one as the legal age to drink alcohol and the reasons I feel this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228600"/>
            <a:ext cx="77724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reduce the number of highway fatalities, our country needs to enforce a national law that designates twenty-one as the legal minimum age to purchase and consume alcoh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53352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legal minimum age to purchase alcohol should be eighteen rather than twenty-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1600200"/>
            <a:ext cx="78483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Hav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ONE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main ide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This is not as easy as it sou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533520"/>
            <a:ext cx="7848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proposed no-smoking ordinance in our town will violate a number of our citizens’ civil rights, and no one has proved secondary smoke is dangerous any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1447920"/>
            <a:ext cx="78483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A </a:t>
            </a:r>
            <a:r>
              <a:rPr b="0" lang="en-US" sz="4800" spc="-1" strike="noStrike">
                <a:solidFill>
                  <a:srgbClr val="ff0066"/>
                </a:solidFill>
                <a:latin typeface="Cooper Black"/>
              </a:rPr>
              <a:t>thesis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is the main idea      of your pape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It is contained in a           </a:t>
            </a:r>
            <a:r>
              <a:rPr b="0" lang="en-US" sz="4800" spc="-1" strike="noStrike">
                <a:solidFill>
                  <a:srgbClr val="ff0066"/>
                </a:solidFill>
                <a:latin typeface="Cooper Black"/>
              </a:rPr>
              <a:t>thesis statement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533520"/>
            <a:ext cx="78487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wo Thes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proposed no-smoking ordinance in our town will violate a number of our citizens’ civil righ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No one has proved secondary smoke is dangero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533520"/>
            <a:ext cx="7848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, pick on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proposed no-smoking ordinance in our town will violate our civil righ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5335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, pick on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most recent U.S. Health Department studies claiming that secondary smoke is dangerous to nonsmokers are based on fault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533520"/>
            <a:ext cx="7848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High school athletes shouldn’t have to maintain a certain grade-point average to participate in school sports, and the value of sports is often worth the lower academic aver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533520"/>
            <a:ext cx="7848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wo Thes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High school athletes shouldn’t have to maintain a certain grade-point average to participate in school spor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value of sports is often worth the lower academic aver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7848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, pick on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High school athletes shouldn’t have to maintain a certain grade-point average to participate in school spor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5335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, pick on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For some students, participation in sports may be more valuable than achieving a high grade-point aver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60020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Say            something worthwhil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6765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If you write it well, any subject can be made interesting.  But some subjects are more predictable and boring than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53352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Dogs have always been man’s best frie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essay may be full of boring clichés about dogs’ faithfulness to their mast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1371600"/>
            <a:ext cx="77724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So, just what the heck IS a 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thesis statement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, anyway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533520"/>
            <a:ext cx="77724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Friendship is a wonderful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DU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Again, watch for tired old ideas that just restate the obvio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Food in the school cafeteria is horri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Although this essay can be livened up with some really, truly gross descriptions, the topic has been done to de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533520"/>
            <a:ext cx="7772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 The Last 3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PICK A DIFFERENT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91440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Sometimes you are asked to write about yourself in an essay; after all, you are the world’s greatest expert on you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91440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The problem with this is that not all topics you generate this way will interest others as the subject is just too perso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9144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In this case you need to UNIVERSALIZE 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so that others can get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four children in my family have completely different personali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might be true, but would anyone outside your family and friends really c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Universalize the Thesi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Birth order can influence children’s personalities in startling w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You can use the same examples from the last thesis, but now others are more likely to buy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I don’t like to take courses that are held in big lecture classes at this sch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Why should your readers care one way or another about your class p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53352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Universalize the Thesi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Large lecture classes provide a poor environment for the student who learns best through interaction with both teachers and pe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685800"/>
            <a:ext cx="81532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oper Black"/>
              </a:rPr>
              <a:t>A </a:t>
            </a: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thesis statement</a:t>
            </a:r>
            <a:r>
              <a:rPr b="0" lang="en-US" sz="2800" spc="-1" strike="noStrike">
                <a:solidFill>
                  <a:srgbClr val="660066"/>
                </a:solidFill>
                <a:latin typeface="Cooper Black"/>
              </a:rPr>
              <a:t> is a sentence that answers these questions for your reader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What is the subject of this essa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What is the writer’s opinion on this        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subjec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What is the writer’s purpose in this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essay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67652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Limit 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  to fit the assignmen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Nuclear power should be banned as an energy source in this coun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Can you really give the broad subject of nuclear power a fair treatment in 250 to 500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90720" y="5335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Narrowed Topic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Because of its poor safety record during the past two years, the Collin County nuclear power plant should be clo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533520"/>
            <a:ext cx="7772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African-American artists have always contributed a lot to many kinds of American cul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5335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Narrowed Topic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Scott Joplin was a major influence in the development of the uniquely American music called rag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16002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State 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  in specific term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53352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women’s movement is good for the coun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53352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ore Specific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Alabama Women’s Party is working to ensure the benefits of equal pay for equal work for both males and females in our st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5335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Living away from home in an apartment for the first time can teach you many things about taking care of yoursel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5335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ore Specific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By living in an apartment, college freshmen can learn valuable lessons in financial planning and time manage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6858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Ravie"/>
              </a:rPr>
              <a:t>Everything</a:t>
            </a:r>
            <a:r>
              <a:rPr b="1" lang="en-US" sz="6000" spc="-1" strike="noStrike">
                <a:solidFill>
                  <a:srgbClr val="3694b6"/>
                </a:solidFill>
                <a:latin typeface="Ravie"/>
              </a:rPr>
              <a:t> you write in your paper should support your </a:t>
            </a:r>
            <a:r>
              <a:rPr b="1" lang="en-US" sz="60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1" lang="en-US" sz="6000" spc="-1" strike="noStrike">
                <a:solidFill>
                  <a:srgbClr val="3694b6"/>
                </a:solidFill>
                <a:latin typeface="Ravie"/>
              </a:rPr>
              <a:t>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762120"/>
            <a:ext cx="78483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should be easily recognizable as the main i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Ideally 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 statement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should show up in the first or second paragrap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838080"/>
            <a:ext cx="7772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An expository or persuasive essay is not a story.  You need the thesis up front in order to give your readers a context for the supporting details in the pap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447920"/>
            <a:ext cx="77724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What if I am not sure what my 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thesis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 is going to be in my early drafts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447920"/>
            <a:ext cx="77724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In your early drafts you will use 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“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working thesis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762120"/>
            <a:ext cx="77724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A 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working thesis 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  <a:ea typeface="Times New Roman"/>
              </a:rPr>
              <a:t>is a statement of your main point in the rough draft phas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  <a:ea typeface="Times New Roman"/>
              </a:rPr>
              <a:t>It helps to keep you on track.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7621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But what happens if I change my 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thesis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 as I revise my pap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2:24:40Z</dcterms:created>
  <dc:creator>Art Belliveau</dc:creator>
  <dc:description/>
  <dc:language>en-US</dc:language>
  <cp:lastModifiedBy>Angie</cp:lastModifiedBy>
  <dcterms:modified xsi:type="dcterms:W3CDTF">2009-05-07T04:52:30Z</dcterms:modified>
  <cp:revision>18</cp:revision>
  <dc:subject/>
  <dc:title>PowerPoint Presentation</dc:title>
</cp:coreProperties>
</file>